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9860-CEA3-47A7-8B05-399131FA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0C6-ADE7-410E-9A37-8D9664AC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0B30-DF90-4FA6-831E-8617A4F7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11B8-9824-4EAE-8812-31825F94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49E5-D73A-4AEB-85D9-08C59568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637A-86A0-46D1-9231-E61AA789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C7F7-1164-446D-B98A-1865B7E7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5DBF-F347-422A-91D1-4F12D28F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0C4C-804C-4EDB-B5BC-15FEED6A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6943-24D2-48F9-AD67-1DE5FBD3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A9E-84E6-46C5-B501-AF732F88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AD4D-99CE-4140-BC07-06D48F89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468F-25CF-4081-88B3-47B920822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civilwarhome.com/1manassa.htm" TargetMode="External"/><Relationship Id="rId3" Type="http://schemas.openxmlformats.org/officeDocument/2006/relationships/hyperlink" Target="http://americanhistory.about.com/od/civilwarbattles/p/cwbattle_bull1.htm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Bull 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n Cutchall &amp; Hali Flick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90920" y="3962520"/>
            <a:ext cx="396216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oefler Tex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oefler Text Black"/>
              </a:rPr>
              <a:t>This was the first major land battle of the Civil W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oefler Tex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oefler Text Black"/>
              </a:rPr>
              <a:t>It was also the battle that made the war become real to many. Because, with the deaths of troops and civilians, the reality of war was brought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3880" y="0"/>
            <a:ext cx="6496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3338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entury"/>
              </a:rPr>
              <a:t>Why is this Important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3338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ivilwarhome.com/1manass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americanhistory.about.com/od/civilwarbattles/p/cwbattle_bull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943600" y="3352680"/>
            <a:ext cx="2854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grayscl/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3338"/>
                </a:solidFill>
                <a:uFillTx/>
                <a:latin typeface="Comic Sans MS"/>
              </a:rPr>
              <a:t>Battle of Bull Ru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38"/>
            </a:solidFill>
            <a:miter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s the first battle of the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21, 186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ssas, Virgin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ttle was called the First Battle of Bull Run by the north because of a stream where it was f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09680" y="152280"/>
            <a:ext cx="4876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"/>
              </a:rPr>
              <a:t>When &amp; Where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es and Pl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1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cDowell began advancing on Manass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1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cDowell tested the Confederate lines at a crossing called Blackburns 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cDowell plans his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2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cDowell attacked across Sudley Springs 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 rot="21284400">
            <a:off x="1523880" y="4647960"/>
            <a:ext cx="2934000" cy="200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he Generals for the Confederates at Bull Ru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781680" y="1143000"/>
            <a:ext cx="2013120" cy="2743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66680" y="182880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3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38"/>
                </a:solidFill>
                <a:latin typeface="Arial"/>
              </a:rPr>
              <a:t>General P.G.T Beaureg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37240" y="5522760"/>
            <a:ext cx="21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3352680"/>
            <a:ext cx="32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3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38"/>
                </a:solidFill>
                <a:latin typeface="Arial"/>
              </a:rPr>
              <a:t>Bernard B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28600" y="2743200"/>
            <a:ext cx="1943280" cy="2590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2800" y="586728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38"/>
                </a:solidFill>
                <a:latin typeface="Arial"/>
              </a:rPr>
              <a:t>Joseph E. John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572000" y="4038480"/>
            <a:ext cx="19288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Generals For the Union at Bull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6194160"/>
            <a:ext cx="56386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38"/>
                </a:solidFill>
                <a:latin typeface="Arial"/>
              </a:rPr>
              <a:t>General William T. Sherman</a:t>
            </a:r>
            <a:r>
              <a:rPr b="0" lang="en-US" sz="3200" spc="-1" strike="noStrike">
                <a:solidFill>
                  <a:srgbClr val="ff3338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23880" y="3809880"/>
            <a:ext cx="195120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72200" y="6338880"/>
            <a:ext cx="42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3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38"/>
                </a:solidFill>
                <a:latin typeface="Arial"/>
              </a:rPr>
              <a:t>Thomas J. Jack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781680" y="4038480"/>
            <a:ext cx="2040120" cy="2362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3200400"/>
            <a:ext cx="333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3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38"/>
                </a:solidFill>
                <a:latin typeface="Arial"/>
              </a:rPr>
              <a:t>Irvin McDo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33520" y="12952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192920" y="396252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38"/>
                </a:solidFill>
                <a:latin typeface="Arial"/>
              </a:rPr>
              <a:t>Robert Patt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4343400" y="1371600"/>
            <a:ext cx="208764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oudy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oudy ExtraBold"/>
              </a:rPr>
              <a:t>Victory for the Confederate forces.</a:t>
            </a:r>
            <a:r>
              <a:rPr b="1" lang="en-US" sz="3200" spc="-1" strike="noStrike">
                <a:solidFill>
                  <a:srgbClr val="000000"/>
                </a:solidFill>
                <a:latin typeface="Goudy Extra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438280" y="685800"/>
            <a:ext cx="4353120" cy="1676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Californian FB"/>
              </a:rPr>
              <a:t>Who Won?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Californian FB"/>
              <a:ea typeface="Californian FB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562720" y="4114800"/>
            <a:ext cx="236196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 rot="20462400">
            <a:off x="1143000" y="4495320"/>
            <a:ext cx="2486160" cy="182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Approximately 5,000 men di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Of those, 3,000 were Union soldier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47920" y="533520"/>
            <a:ext cx="6091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rrington"/>
              </a:rPr>
              <a:t>How Many People Died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rrington"/>
              <a:ea typeface="Harringt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2:01:56Z</dcterms:created>
  <dc:creator>haliaflickinger</dc:creator>
  <dc:description/>
  <dc:language>en-US</dc:language>
  <cp:lastModifiedBy>haliaflickinger</cp:lastModifiedBy>
  <dcterms:modified xsi:type="dcterms:W3CDTF">2009-03-24T12:49:44Z</dcterms:modified>
  <cp:revision>10</cp:revision>
  <dc:subject/>
  <dc:title>Slide 1</dc:title>
</cp:coreProperties>
</file>